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D1B-6A35-4F51-9799-5544D722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5FA-ED82-4835-A428-4D3803FB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9DCE0-1786-4188-89FB-744D03E4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FBFAB-DEE6-461F-B1F9-8D2B7B96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9075D-8F85-4A79-986C-3DACD54A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04685-FAEC-4154-B194-275AF2F9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8F40C-AA3B-4D1E-B8CF-7937480A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13878-A4D7-4796-9318-3E814731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DBA57-676E-4FEC-952A-0911EF92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77571-5AE5-45FC-B130-D78919B9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4F346-CABF-4C2F-9C14-94F3E9FB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F4387-411E-4C4E-97CD-01580E8F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4AB-DE0F-4151-9A8D-1C0CDD35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7D047-7766-47B3-992F-B9083253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05C6A-4EF0-412A-AB89-D806604A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029FB-B705-4116-8701-32896AE6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0A1DB-C389-4C03-ACCE-96DBADE5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F21D2-760A-489D-8215-D17193D3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60C59-01F5-4B39-8B10-602F79D1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94BD9-EF80-4B1C-BAA2-BAE764C4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8A070-6E2A-49EC-9482-08351999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4AC65-C594-44F7-B88A-7D33E6E0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7E790-CC23-4462-A099-D64D916E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86B-94E9-4A9F-8B8F-D274AE0A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34B45-763A-4949-ADC8-E029E3E0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2BEF7-DF92-4D70-BEB4-A9B3D83C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1480A-97A1-4832-807E-96DA2D18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AEA6C-6D93-4030-8A46-7B17E7F5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6F58B-5AAE-4867-BADD-59CB502F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9DFD0-4E7B-4F7C-9181-8FE61E8F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FBEEA-94AA-4CAB-A41B-4A8A330F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87B0B-5832-4E09-98DC-A6C98B94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4658A-7FCC-47C2-9A5D-AC8F413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442F9-E811-4DAF-AC48-FD364D62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F48A-68D9-461A-822F-1920E640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84649-3E35-49E4-B862-911D2ED5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00A9A-6F8E-40ED-A30C-FCD6FA84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44F75-711C-49BB-854C-45B51EB9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AE243-C795-4227-9140-744CA80C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BEAF0-E967-4079-9F04-76BB9AD9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8A3D2-F8AD-4F1B-B022-BC52D873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FD827-DC98-4F29-8237-2AA69055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40CC4-2506-4761-A686-FDC553E4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77473-763B-43A2-8E89-E21EA498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F22EB-379C-4635-83E4-86BB911F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E728-2C89-4171-BC5C-C80EE7A8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AAF8C-AFDA-4703-9A89-D7E2BA9F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E10E9-BF48-4E3D-B5B4-09AF3DD8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8A591-D955-4FE9-B59B-3E246EC0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7D878-69D0-47C2-817B-A3F1FA8E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E0E84-504F-405B-8C26-002C4390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1EF94-7547-4E8F-BEB7-273351E4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E4F37-C3C8-4BD8-8286-1D4BE53C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44730-2978-40EA-A105-0B3E0D20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C1992-CED1-4BD2-BA5B-C7FABFA7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CD7F6-7ED4-4820-8B11-B26B4B2F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8769-2452-4066-A104-6C20325C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6B8BB-B4E1-4078-A7E3-DC52659A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C1E65-4CC3-46BC-AD3D-3B082F8E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6EA3B-7FBE-4715-93F9-79C88FB9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EC831-9D39-4D6D-89EF-DCE754B8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93350-1EC3-4062-9395-80498562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0B63F-30CC-4C04-A9DC-F428062E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6C7EE-A2A6-488C-8240-8C497A30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7A38B-BF80-4C4C-9E9E-56355522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3E3C0-47E1-4AE7-B4EF-0BD6AD8D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B8E51-57B8-418A-B3A0-75D7F70E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F9A0-A143-48D0-85B6-D7EA4832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EFA65-9170-46CC-B54A-4F83BB52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1D890-EFCF-40C4-94F8-6BC782BE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E1223-C436-4E78-AB83-9E69CCC5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8FF52-CE0E-4A70-A883-0D69432F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03AAE-BBC1-4A09-9B44-2B46D55F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81C01-C0C5-418C-8261-04C2806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D86D3-1DDC-4330-B1BC-2FED398D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58C30-F266-4B56-84CE-54EA40FA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2CB60-38C4-49E8-BCE6-6BD42E31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820FA-7542-41B8-A003-FD2ED73C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8C5C-4AC0-419E-8B54-868ACBCB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0ADE4A-60F1-4DAD-B231-55F6855B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3C95E-39F0-43D2-8DC0-AA58C94A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1D0CD-F48F-45DD-AE74-EF28D7F8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6F3A43-FD14-4DFD-A251-ED74B202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B93AD-2F8A-4A48-8C73-F320D35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99CD38-5EDF-46B9-AEBD-E316D6B6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5D77D-B8B5-40DD-B9E9-392A1B16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0B208-5C4A-4D1A-9092-23663ACC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BBE81-152A-4D42-A1D2-87BA6B36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91B5F-0598-495E-AC73-C1029EB3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DF71-1E9C-4742-AA84-F4330BE7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CEFDF-5E08-4792-B64B-8BB9CED5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9B7DB-1EFD-49CD-9E03-2F5ED3A0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A94EF-62F5-4824-AB92-35FFFA61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A84259-43B3-4D4E-AED6-A57DDBE4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F19F1-707F-429F-A5F0-9279165E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5F8A5-D8B5-414C-85D8-5D398316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BA6DE-79EB-4E60-AAEB-2BD14C3A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5BE46-D11F-4D33-B350-356B37F6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AAC42-4448-4576-A7C1-C76CB5EE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8A0AC-4B45-4032-8C6E-0729CBC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0A63-9DBF-4227-85C3-D1B6BA51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3EF6E-3E5F-47BC-89DA-C7686A5C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D0D4E-1F57-4B67-9F2F-C16951E9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1C397-A52E-4D59-AA9D-00CDEFEE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128B4-EDF0-4F0C-9EC5-73AB7453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24FAB-FD17-48FB-9D42-B4B4383A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E6625-2B44-43DF-BD7D-A3E5A11A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DE2F38-4528-4DC7-90DF-1084451C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19AF6-304A-4392-BBEB-74607C06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E1D25-6AEE-4FD3-AB2A-9DA80546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E4AF4F-34A4-4956-BA9F-160F7826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0A0-4714-49CF-A048-6531EECD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84D2-2D7C-4D75-B30A-44090CA8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D459B-BD65-4D2A-B2C0-0A996C8F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505156-E198-447F-A20E-A026693C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1E265-52B7-4DD9-8FDF-3FD02D31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DDB80-92D1-4BA5-AAA1-FFF4B28E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4515F-318A-4DF8-842C-5B1A9827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37A60-B510-4ED3-A476-98DEB9DE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66B44C-AF4A-4B6C-9F7A-2D1009A1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72551-D644-41E3-BB38-A2D58D93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07AAB-C452-46D1-B48D-A073D805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96746A-48B6-45E1-B525-4C02D3F9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E9F9-E5F8-45F8-A2F6-29AAFEB2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0C12C-A6D5-45D5-A889-74F958B1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980A6-9BF5-42D3-B2A8-64694194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6DA32-E54D-402D-B8A2-F8FCEB2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ED6BD-64A0-4786-9199-012D5248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1B6A8-0415-4CC9-9DDF-CDC7DDF7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10EE44-0BCC-48C8-8F95-AF51CB03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5B58F-549D-49EF-BBF9-3DEF08BA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B9A53-6E30-4A9D-BE41-718B7489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BC0F7-96AD-4F16-9AA5-C56C3A8F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7628E1-C94E-4CB9-91A8-E1960253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0E34-F762-4622-B288-56F6FFDE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279058-06F2-4AA3-A478-56405B55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168D84-C9C2-4980-982F-DA5A0BC9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2DD9B5-5E65-47A4-9581-999C7639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2AEA7-84B9-4EE6-99E7-00219D7F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C42844-BA63-4B79-A827-21ED47BD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3BEA8A-10F6-4E8E-9DB2-E4576FFD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FA2F0-47AB-4C6A-989B-44587D0E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7FCCE-6AC5-4438-96ED-9AE1C395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0E02B3-5AAE-42BB-AC3E-FC54DE92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C7E65-9120-47F9-BD88-28BE50D2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E082-4BF1-4CDE-8053-771A7589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051BF-B7BE-430C-AA02-F5355389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DD0219-3191-4B8B-A7AC-C40D3CB7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7C4BB-8ED5-457A-A0EC-DCF4EF0C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D5E31-D255-414F-B3AA-A998662F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C17003-E5CF-4240-955E-E4DFA83A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89994C-898D-450B-80D3-F0ADA19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D52B95-5A86-4D35-9AEB-97B35E10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C26479-AFEB-423A-AA36-757713CB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C6A488-4A5C-4E35-9000-47FC1F60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B52276-AE4C-4E63-815D-6DC745C5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93EC-58FD-47D4-9CD8-04E9E238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A511C9-2694-489C-8B94-91C7F2B7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ACECC3-CC2C-4001-99DC-289448D3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5D3E2E-B65E-4ACE-A5EB-E668C96F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710CE7-1028-4DAE-83B4-88E640B2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12D10E-8774-42B1-989A-7A45238B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D6E004-BBE9-4C2E-B6E4-F162519B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EFF9C5-4CC5-430B-BFDF-ACD1F376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9D0035-97C8-4E09-9735-7D63148F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FCC07-2859-49E4-88FA-A2C3A700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C51564-9C04-4069-84C0-B34C05C2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3CD8C-6309-4504-9336-48E07839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1B6EE8-8ACC-4FB0-9ED7-436F5033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8D15B5-2C97-4644-8B8E-55218D04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6E87E7-B199-4E60-B7D7-EBE76691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B3569A-A8B5-4B36-BB61-0855CC75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28F203-425F-4E8E-AF5C-EDA46928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029926-B806-4796-9CEC-72882761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61E874-6969-4392-9052-6D790DE3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1A4350-4BD0-4051-8C43-4832A359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C3C34-AD82-46BC-83DD-4485D7FD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53BAF1-111B-43D5-AB53-94E301DA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50EF-43B2-4C90-B785-FBDFCF29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C0B0CF-986B-4352-8B78-F90B9679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9B66C8-4FCC-4772-8B02-45764426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C39D3F-D31B-4641-891C-246B58F9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0ED318-BF54-4963-BA2E-CA4FE699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C608D8-5528-4223-8DF6-237BC00A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A15F05-E241-41A1-A326-46F192AF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0A6B03-039A-42F1-8B9C-C211B8AC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281520-0266-4E91-BB33-76D4278D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BB82D3-58A9-4EF2-8928-296ABE63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28CF51-75E8-4D3B-9FC5-4254ABF7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E035-3ECD-485F-A978-1253C7C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2CB676-3109-434B-91B2-D97541E8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327EDC-FE5D-444D-84F1-AC37F0A3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ED9BF5-6647-4132-BE75-FD5E2D92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E23B8D-1DB3-4999-BA60-8291E1E7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EB34BA-91F4-4813-BE35-14966CC9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A6F3B2-F7FA-4309-9FC6-0ACF2A80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8E8BE5-E520-4F06-968D-A717CF18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A12A83-352F-4D00-96C6-0CA47108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9F1899-8B92-4570-BAE4-A4F0DFB7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53017D-0710-4E55-8F05-E4BD9BE7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4E20-385F-47D5-A3FE-A7C108C0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691271-8FC6-4CCD-9205-C72E2252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50A7DF-41E9-4A86-B18F-FCF1B02E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C83A5B-2508-4C65-8E31-E401B758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2CF415-A026-4F60-941F-46D7C99E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2B8959-0ED3-49DC-B903-A7E16D58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0A7113-7DA3-43A2-852B-8E907C52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696F50-875F-4C09-A25C-A4098CE8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B614AA-3E61-4632-BE45-801E153F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4E9D34-382A-4ACA-9CDE-34768771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0BBE19-3F2C-4EAF-A6BF-B16EEAF8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1F6B-4F39-4113-9792-9E232D82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054188-89A7-4E03-AECB-935E2A30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95D075-F4AD-428A-8E26-35834CA1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937923-FEEC-40CC-A1FB-78DF5465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DFB55D-9098-4648-98B5-E25D3C8A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C65E64-1EF3-4A3D-8230-C9968848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453821-4888-4D20-A72E-78695009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3DA75C-A509-4F85-81DA-E2DEA48D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FD8FBD-75A5-41CB-B527-F13EF07D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56446B-959F-42D7-ACD1-3BC39C94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F8196E-09DB-41B9-93AF-E98603C8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FC8-F88F-47D7-A300-01EE2F88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BD21-631F-4388-9AA6-74002BB6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0F700D-7752-4531-BEAC-EDAAF2BE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A5DAD3-AF25-4509-B02D-8CC9EE6D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BA8443-4A67-4A14-A5CA-3659C923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6D83AB-70C7-44E4-848A-9D5BF0EE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7A50E6-1A9D-40F0-9943-2E5AC8A0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53DF7C-6D20-4525-8429-5ACBF006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F5A5C9-2CB2-4B7E-AFD3-978634D6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76F98F-A9EE-4C80-B899-536E523A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D9C341-9F49-416C-A51D-B085A701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B6953F-6184-4C53-BB70-8D0E2150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CD49-79CA-4331-B2E3-52B3C0B5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1F4443-8C95-41B1-A4A7-448255DB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077DB2-73E3-4390-AB40-1BFE88CE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3EA6ED-2521-45FC-9CD0-DA885818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DD5777-650C-4F7D-8417-2BA00B1A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691690-786F-4FA7-85C3-F9E71D0F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2CF582-CED4-4810-B37F-7443FBBC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E5E4C2-BA64-43C5-80D9-714D90ED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0B616A-BFC7-43BC-BC95-8E715400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FBD009-DA2C-4C56-A112-9FBE9DD8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0814B0-B884-4519-88B9-C756DA69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4EAA-63E0-4ED7-9903-A5FD9FFA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7BB429-0D70-4E41-8B9B-6BD4331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69E0BA-83E7-414F-BF93-F5E65DDC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BD8871-0DE3-4E32-B372-16B5C68A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3BFCB6-4120-4577-8310-D62DD18D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32AD99-E2E3-43B3-811D-50A2C079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6BB614-D377-413B-8A38-418AB206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11EF27-9BCD-4FE2-BB07-9DC7483D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B18285-B2CD-4CC1-9518-56D2EE19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79E200-434D-4B0E-9EBC-AD00AD80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207741-788F-47EF-8241-3CEAE860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971C-E068-4428-87C2-23FA83A7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73042C-4008-4EEE-BE2F-2B08E507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856B14-DAD5-46BD-ACB5-7D56BFB8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652581-33C0-4603-AC82-E54795C4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15061C-1C9C-4C2C-A187-ED57D5E2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1632C3-C085-4D01-BA35-D8764988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415FEF-F11B-435B-8EC9-1AEAF495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967E17-F0C7-47C0-93E3-4BAB9DA1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E76252-3AFF-4AB6-B53E-107BBB38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9F9EFA-5044-4091-A3AA-BEC63653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42A9ED-C23F-4B69-86B9-939CA767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C2B4-FFA7-47CD-9961-AE2B9346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6F2ABC-3AA6-4367-9149-942EB238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1052EB-5183-41E6-B4DE-90EFC901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B9A064-D28C-422D-A21B-6A7F98C1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74DB18-C640-483C-8843-E9F222F7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27F7DC-EB1D-4A10-B8C5-1E097629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5FCB2A-E3BC-4783-986A-19D66E1A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D74D76-D60B-4D8E-A3F8-334F14FE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755C78-F178-4FCD-B83D-E9D662CD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C1AEE4-4F1C-41BF-B36E-1BBD8D03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E4EA9A-7C87-48C9-9307-18C6CA6D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1D1FA-A045-4F4B-A70D-DF8F6769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1E9420-258A-46E5-AD64-945C6987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DC9DB3-3B8E-45AF-919D-D4482B33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9C2A2D-10F8-4A45-8035-96B06C24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77D460-ADE9-4D20-BC53-8A20180F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86EE32-0D0B-400D-BA63-FFCCDE35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1E9373-B9D0-410A-944A-2F5B00A0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227712-32D8-4D34-BF55-A3D95E4D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7F109D-7D13-41A7-8892-FA51D7C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48C3B9-30E9-4BD0-9ACE-7E531B58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80E6FC-01FC-4264-ABD2-7BF15CED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9CCE-F2A9-450A-ABDA-E2D76B98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F6CADE-CDDA-4067-95C8-ECDDE750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7BF006-E7EF-4DE4-AD57-2BB2C4B0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A56CEE-2856-4F68-AE27-A6225F21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E56B21-F2D7-46EA-B4E6-39C78C78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B0FDE2-7A7C-4228-81BE-E4FE167F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C1DE23-5D07-4218-9BD9-3F24500F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AE9C17-3CFB-4250-92AF-1410DF44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3A0097-16E3-4639-B071-DC290EF3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E222D8-A32B-4349-95CB-E1E37370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824338-54F3-4A4B-A380-0DAEEB6C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14143-BDF4-4B18-BC93-FC84D00C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C76AFF-225B-4290-AB93-127F0DF9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D97853-F7B9-46CD-B742-B018A024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88365D-7FDA-4023-A886-1FD9D4A6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5B45-283F-4C22-8D72-C6A36AE8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F9F4-9FD5-4C5F-B278-CF38FC10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510-767C-4B96-B2BB-214C0481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3EAA9-5446-4E0E-A0C7-CA9FE180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BB41-D655-4365-B97F-BFFAE844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AFF90-16CE-403A-9B5A-1C1CA2DB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FB930-7032-471C-ABE7-9F985EC5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7BDD-BF0D-4755-AD6B-84013F42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787D-0A3B-42B4-875D-0E6B28E4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93DD-50AA-4A04-9688-B3D8C50C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3D049-88EC-47FF-B405-0870DC5B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CA5C8-2B0C-47E7-9392-67AD59E1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F659D-BB5B-4E44-8BCD-6A87C362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EF0-793F-4082-9B35-0BB74C39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486CC-2E46-435C-9E1B-140947F2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2C420-402B-495F-88F7-798C4E8D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A6A45-51D6-4565-9F8F-EE08994C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6B932-8309-44A4-AF2E-B703DC6C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ACA19-A56F-44A7-941C-1875D0B1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C72C0-2D8B-4894-B791-C12ECB4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601A8-3603-4C2A-8326-ADFBCA86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081A0-F6EA-4B50-BCA2-630721BC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32AE2-D2A1-4489-9F41-C5D4B9AC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CCD83-E01F-429A-89A7-15D4BDCF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117-FD29-463C-92B6-16B4096E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45E3E-AF3A-4DF7-A886-5D3BAF63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AC38F-D0E2-4BA7-82B7-53C77A39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1CEC-7226-465A-8E43-58F560DC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B5A37-0535-4863-802A-7EAD039B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AB4DC-1495-4F35-A996-CEA4B7D0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407F8-F7C8-4FDD-BA4F-17092A53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736BA-B1B2-41DF-BED4-6AB5D136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6BF9A-AEE3-4B5E-8357-AFEBA6AD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F476D-16B9-4545-9F79-3539E98F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6DEEA-9363-4299-BBC8-DEE9D116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610-39B1-4B93-82F7-85D2CE89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F18D1-E5EF-4D60-9CD7-F4AFF30E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F84CC-A3DA-4241-A5A4-5A759FD6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4585B-372E-46F5-835D-8BB08987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C728D-15FF-4D46-B878-B45462DC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1C738-5EE6-411A-AC89-659EDD97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546EE-3C81-4ECC-A857-BEBEC818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A42A-0DE4-4C81-A031-F968AB40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5F861-B90E-47D7-953F-5FBD4E99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7B171-529C-4B4D-826D-36F73C1D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6367D-55FA-4D1E-82C2-FDD8C7B6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849-BDD9-4926-8062-C587B7A5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4FC1D-DC82-4761-B284-3304CDD9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8F3B4-02E1-4A79-9D8A-534B63CD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77536-E923-4205-B5AB-C3174927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F683A-E89C-4DBD-9414-55C648D1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1B653-6763-4A33-A022-CD7285E3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2B9B1-0CF7-4D9D-985D-7CAD5F03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57C9B-DD22-4453-91D0-63742899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9A165-2618-425C-BC3F-5E313815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1496E-5565-4CEC-BF85-D86F8F22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CBB11-810D-4CDA-B297-774E0039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3DC-1F75-4575-9FC8-A6D8EDCA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8AE3C-6AA5-45DD-8585-2E0AF01B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4B589-1970-4C75-943F-E4716485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76912-8C3C-4857-A58B-38C4C786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CCFCE-B619-4CE6-9E5B-D1DA6576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5A5CA-7DC8-4192-9D0B-E494D723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1F982-CAB7-46FE-800D-36C8DCD6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9C262-4819-4A12-A567-9C8CA314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DE642-6076-4DFA-9626-3BE818E8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92EDA-5E85-433A-887B-81196825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E7B2A-70E4-4C71-8774-5EA4BF0F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9781-89C8-46F1-8478-B26959C5A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DF17-912B-4825-808A-891CF0904E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DEA0-CD2D-4A09-8390-8A4585344A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1EFE-492B-416D-94F0-35A4F99C97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BC8E-165B-45A2-A3E7-2ACB05E21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CC48-4D4E-476B-9DEC-0FD9F591F6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C915-2BD2-42BE-A1A5-A7E9A05D31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0C8C-5185-4DE4-B957-2C139B22A8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D610-17AE-4F25-809C-567393A3E3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32F7-4280-472A-A480-1F8CEE7E15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F067-22F7-44BE-B276-CE4A8956E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3B0D-E8CA-4B86-9E07-4C4926B333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3AA7-691A-464E-B480-D95EEE5B0A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90D7-A5DB-4E9C-A60A-7C05C1CCEF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24DF-6401-4DA0-AE90-3C981B095C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DCD4-CA3B-4406-9E1C-05BBE3BBA1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0AC2-3B34-42DB-BC0A-77A7FC286C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A4DC-DB1D-41DD-ACD8-C2E9FD6DBE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8813-CBA0-46EB-9820-198CE4B324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2E9B-A964-4E1B-9FFB-3643CC7B56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A91D-24D1-48C5-8A5D-99C5E3C32B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E95F-BD99-4BCE-B7FC-3D92D95F95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EFF6-2996-401F-8F38-FC2EF044D4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A994-459B-4D7B-AA82-E2F347021D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649D-808C-49B8-ADF6-9792D71C0E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ADC4-A37D-455F-A32B-1537597800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553A-5D9F-4FE6-9210-A824975C4A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4DF5-B8D8-40A7-8863-99F18A3ECD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00FD-AA90-494C-946F-78D5AC0032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2477-AFBE-41DA-94C1-F0AD3EC24E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4C71-1A65-4E63-BBBA-43C3530FB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1F90-5A00-4EBA-B50C-036961A6CC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BF9B-5370-4588-8D64-147CEFF0C1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DE3F-1172-464E-B8D9-23BCFC354E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3AE5-644C-4653-842D-78B955B91A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9B54-3DF3-4FAB-A4E9-EB343B7386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540B-557B-4EAC-8CA4-D5B15C745D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E050-6DB6-4F0D-AE62-8323B3FA7F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09E6-C744-4538-AAAB-B6EC3D8D3A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9752-C68E-48EF-B5EC-00B02EEA3F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8DBB-1675-4DDA-8562-0528DB6C4F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3A1F-927B-4390-BDDD-751B7761DC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B897-2180-493F-B000-88205208EB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2D7B-CE8C-4B3B-8CCB-663E51E804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2710-C0F8-4EB5-9972-51A424847D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6AE4-A1D6-43DE-BE92-011D71315A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80D8-9571-4A9B-B115-F3A08EFC62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417C-DEC5-4825-A455-2D3360DB38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FB90-1120-4750-A750-651F3D51CF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5F4C-62E7-4B65-BE59-23069B17A2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210280" cy="9907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1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67435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79873" descr=""/>
          <p:cNvPicPr/>
          <p:nvPr/>
        </p:nvPicPr>
        <p:blipFill>
          <a:blip r:embed="rId1"/>
          <a:stretch/>
        </p:blipFill>
        <p:spPr>
          <a:xfrm>
            <a:off x="452520" y="985680"/>
            <a:ext cx="8238960" cy="4886640"/>
          </a:xfrm>
          <a:prstGeom prst="rect">
            <a:avLst/>
          </a:prstGeom>
          <a:ln w="0">
            <a:noFill/>
          </a:ln>
        </p:spPr>
      </p:pic>
      <p:sp>
        <p:nvSpPr>
          <p:cNvPr id="1455" name="矩形 79874"/>
          <p:cNvSpPr/>
          <p:nvPr/>
        </p:nvSpPr>
        <p:spPr>
          <a:xfrm>
            <a:off x="2771640" y="1523880"/>
            <a:ext cx="69552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79875"/>
          <p:cNvSpPr/>
          <p:nvPr/>
        </p:nvSpPr>
        <p:spPr>
          <a:xfrm>
            <a:off x="2771640" y="1989000"/>
            <a:ext cx="36036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79876"/>
          <p:cNvSpPr/>
          <p:nvPr/>
        </p:nvSpPr>
        <p:spPr>
          <a:xfrm>
            <a:off x="4932360" y="3933720"/>
            <a:ext cx="80820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79877"/>
          <p:cNvSpPr/>
          <p:nvPr/>
        </p:nvSpPr>
        <p:spPr>
          <a:xfrm>
            <a:off x="1763640" y="5373720"/>
            <a:ext cx="80820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78849" descr=""/>
          <p:cNvPicPr/>
          <p:nvPr/>
        </p:nvPicPr>
        <p:blipFill>
          <a:blip r:embed="rId1"/>
          <a:stretch/>
        </p:blipFill>
        <p:spPr>
          <a:xfrm>
            <a:off x="490680" y="1347840"/>
            <a:ext cx="8162640" cy="4162320"/>
          </a:xfrm>
          <a:prstGeom prst="rect">
            <a:avLst/>
          </a:prstGeom>
          <a:ln w="0">
            <a:noFill/>
          </a:ln>
        </p:spPr>
      </p:pic>
      <p:sp>
        <p:nvSpPr>
          <p:cNvPr id="1460" name="矩形 78850"/>
          <p:cNvSpPr/>
          <p:nvPr/>
        </p:nvSpPr>
        <p:spPr>
          <a:xfrm>
            <a:off x="6300720" y="2349360"/>
            <a:ext cx="87336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78851"/>
          <p:cNvSpPr/>
          <p:nvPr/>
        </p:nvSpPr>
        <p:spPr>
          <a:xfrm>
            <a:off x="3780000" y="2852640"/>
            <a:ext cx="87300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77825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96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76801" descr=""/>
          <p:cNvPicPr/>
          <p:nvPr/>
        </p:nvPicPr>
        <p:blipFill>
          <a:blip r:embed="rId1"/>
          <a:stretch/>
        </p:blipFill>
        <p:spPr>
          <a:xfrm>
            <a:off x="700200" y="1447920"/>
            <a:ext cx="7743600" cy="3962160"/>
          </a:xfrm>
          <a:prstGeom prst="rect">
            <a:avLst/>
          </a:prstGeom>
          <a:ln w="0">
            <a:noFill/>
          </a:ln>
        </p:spPr>
      </p:pic>
      <p:sp>
        <p:nvSpPr>
          <p:cNvPr id="1464" name="矩形 76802"/>
          <p:cNvSpPr/>
          <p:nvPr/>
        </p:nvSpPr>
        <p:spPr>
          <a:xfrm>
            <a:off x="1601640" y="1938240"/>
            <a:ext cx="4716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76803"/>
          <p:cNvSpPr/>
          <p:nvPr/>
        </p:nvSpPr>
        <p:spPr>
          <a:xfrm>
            <a:off x="3780000" y="2565360"/>
            <a:ext cx="1041120" cy="6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76804"/>
          <p:cNvSpPr/>
          <p:nvPr/>
        </p:nvSpPr>
        <p:spPr>
          <a:xfrm>
            <a:off x="2050920" y="3789360"/>
            <a:ext cx="4716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76805"/>
          <p:cNvSpPr/>
          <p:nvPr/>
        </p:nvSpPr>
        <p:spPr>
          <a:xfrm>
            <a:off x="2411280" y="4797360"/>
            <a:ext cx="7923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89089" descr=""/>
          <p:cNvPicPr/>
          <p:nvPr/>
        </p:nvPicPr>
        <p:blipFill>
          <a:blip r:embed="rId1"/>
          <a:stretch/>
        </p:blipFill>
        <p:spPr>
          <a:xfrm>
            <a:off x="476280" y="1266840"/>
            <a:ext cx="8191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90113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800840" cy="5543640"/>
          </a:xfrm>
          <a:prstGeom prst="rect">
            <a:avLst/>
          </a:prstGeom>
          <a:ln w="0">
            <a:noFill/>
          </a:ln>
        </p:spPr>
      </p:pic>
      <p:sp>
        <p:nvSpPr>
          <p:cNvPr id="1470" name="矩形 90114"/>
          <p:cNvSpPr/>
          <p:nvPr/>
        </p:nvSpPr>
        <p:spPr>
          <a:xfrm>
            <a:off x="826920" y="836640"/>
            <a:ext cx="43815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90115"/>
          <p:cNvSpPr/>
          <p:nvPr/>
        </p:nvSpPr>
        <p:spPr>
          <a:xfrm>
            <a:off x="755640" y="1341360"/>
            <a:ext cx="43815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90116"/>
          <p:cNvSpPr/>
          <p:nvPr/>
        </p:nvSpPr>
        <p:spPr>
          <a:xfrm>
            <a:off x="826920" y="1971720"/>
            <a:ext cx="438156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90118"/>
          <p:cNvSpPr/>
          <p:nvPr/>
        </p:nvSpPr>
        <p:spPr>
          <a:xfrm>
            <a:off x="826920" y="2708280"/>
            <a:ext cx="43815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90119"/>
          <p:cNvSpPr/>
          <p:nvPr/>
        </p:nvSpPr>
        <p:spPr>
          <a:xfrm>
            <a:off x="900000" y="3238560"/>
            <a:ext cx="5127840" cy="69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90120"/>
          <p:cNvSpPr/>
          <p:nvPr/>
        </p:nvSpPr>
        <p:spPr>
          <a:xfrm>
            <a:off x="900000" y="4076640"/>
            <a:ext cx="58309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90121"/>
          <p:cNvSpPr/>
          <p:nvPr/>
        </p:nvSpPr>
        <p:spPr>
          <a:xfrm>
            <a:off x="927000" y="4581360"/>
            <a:ext cx="6310440" cy="11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90122"/>
          <p:cNvSpPr/>
          <p:nvPr/>
        </p:nvSpPr>
        <p:spPr>
          <a:xfrm>
            <a:off x="900000" y="5877000"/>
            <a:ext cx="69454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8065" descr=""/>
          <p:cNvPicPr/>
          <p:nvPr/>
        </p:nvPicPr>
        <p:blipFill>
          <a:blip r:embed="rId1"/>
          <a:stretch/>
        </p:blipFill>
        <p:spPr>
          <a:xfrm>
            <a:off x="514440" y="1228680"/>
            <a:ext cx="8115120" cy="4400640"/>
          </a:xfrm>
          <a:prstGeom prst="rect">
            <a:avLst/>
          </a:prstGeom>
          <a:ln w="0">
            <a:noFill/>
          </a:ln>
        </p:spPr>
      </p:pic>
      <p:sp>
        <p:nvSpPr>
          <p:cNvPr id="1435" name="矩形 88066"/>
          <p:cNvSpPr/>
          <p:nvPr/>
        </p:nvSpPr>
        <p:spPr>
          <a:xfrm>
            <a:off x="6084720" y="3141720"/>
            <a:ext cx="4716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87041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58240" cy="5753160"/>
          </a:xfrm>
          <a:prstGeom prst="rect">
            <a:avLst/>
          </a:prstGeom>
          <a:ln w="0">
            <a:noFill/>
          </a:ln>
        </p:spPr>
      </p:pic>
      <p:sp>
        <p:nvSpPr>
          <p:cNvPr id="1437" name="矩形 87042"/>
          <p:cNvSpPr/>
          <p:nvPr/>
        </p:nvSpPr>
        <p:spPr>
          <a:xfrm>
            <a:off x="7812000" y="1341360"/>
            <a:ext cx="4716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6017" descr=""/>
          <p:cNvPicPr/>
          <p:nvPr/>
        </p:nvPicPr>
        <p:blipFill>
          <a:blip r:embed="rId1"/>
          <a:stretch/>
        </p:blipFill>
        <p:spPr>
          <a:xfrm>
            <a:off x="538200" y="2238480"/>
            <a:ext cx="8067600" cy="2381040"/>
          </a:xfrm>
          <a:prstGeom prst="rect">
            <a:avLst/>
          </a:prstGeom>
          <a:ln w="0">
            <a:noFill/>
          </a:ln>
        </p:spPr>
      </p:pic>
      <p:sp>
        <p:nvSpPr>
          <p:cNvPr id="1439" name="矩形 86018"/>
          <p:cNvSpPr/>
          <p:nvPr/>
        </p:nvSpPr>
        <p:spPr>
          <a:xfrm>
            <a:off x="7740720" y="3213000"/>
            <a:ext cx="471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84993" descr=""/>
          <p:cNvPicPr/>
          <p:nvPr/>
        </p:nvPicPr>
        <p:blipFill>
          <a:blip r:embed="rId1"/>
          <a:stretch/>
        </p:blipFill>
        <p:spPr>
          <a:xfrm>
            <a:off x="490680" y="1690560"/>
            <a:ext cx="8162640" cy="3476880"/>
          </a:xfrm>
          <a:prstGeom prst="rect">
            <a:avLst/>
          </a:prstGeom>
          <a:ln w="0">
            <a:noFill/>
          </a:ln>
        </p:spPr>
      </p:pic>
      <p:sp>
        <p:nvSpPr>
          <p:cNvPr id="1441" name="矩形 84994"/>
          <p:cNvSpPr/>
          <p:nvPr/>
        </p:nvSpPr>
        <p:spPr>
          <a:xfrm>
            <a:off x="4788000" y="2708280"/>
            <a:ext cx="471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83969" descr=""/>
          <p:cNvPicPr/>
          <p:nvPr/>
        </p:nvPicPr>
        <p:blipFill>
          <a:blip r:embed="rId1"/>
          <a:stretch/>
        </p:blipFill>
        <p:spPr>
          <a:xfrm>
            <a:off x="533520" y="1467000"/>
            <a:ext cx="8076960" cy="3924000"/>
          </a:xfrm>
          <a:prstGeom prst="rect">
            <a:avLst/>
          </a:prstGeom>
          <a:ln w="0">
            <a:noFill/>
          </a:ln>
        </p:spPr>
      </p:pic>
      <p:sp>
        <p:nvSpPr>
          <p:cNvPr id="1443" name="矩形 83970"/>
          <p:cNvSpPr/>
          <p:nvPr/>
        </p:nvSpPr>
        <p:spPr>
          <a:xfrm>
            <a:off x="7740720" y="1989000"/>
            <a:ext cx="47124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8294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24840" cy="1057320"/>
          </a:xfrm>
          <a:prstGeom prst="rect">
            <a:avLst/>
          </a:prstGeom>
          <a:ln w="0">
            <a:noFill/>
          </a:ln>
        </p:spPr>
      </p:pic>
      <p:pic>
        <p:nvPicPr>
          <p:cNvPr id="1445" name="图片 82946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7877160" cy="299088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2947"/>
          <p:cNvSpPr/>
          <p:nvPr/>
        </p:nvSpPr>
        <p:spPr>
          <a:xfrm>
            <a:off x="7769160" y="2471760"/>
            <a:ext cx="4716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1921" descr=""/>
          <p:cNvPicPr/>
          <p:nvPr/>
        </p:nvPicPr>
        <p:blipFill>
          <a:blip r:embed="rId1"/>
          <a:stretch/>
        </p:blipFill>
        <p:spPr>
          <a:xfrm>
            <a:off x="504720" y="790560"/>
            <a:ext cx="8134560" cy="5276880"/>
          </a:xfrm>
          <a:prstGeom prst="rect">
            <a:avLst/>
          </a:prstGeom>
          <a:ln w="0">
            <a:noFill/>
          </a:ln>
        </p:spPr>
      </p:pic>
      <p:sp>
        <p:nvSpPr>
          <p:cNvPr id="1448" name="矩形 81922"/>
          <p:cNvSpPr/>
          <p:nvPr/>
        </p:nvSpPr>
        <p:spPr>
          <a:xfrm>
            <a:off x="7634160" y="3711600"/>
            <a:ext cx="4716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80897" descr=""/>
          <p:cNvPicPr/>
          <p:nvPr/>
        </p:nvPicPr>
        <p:blipFill>
          <a:blip r:embed="rId1"/>
          <a:stretch/>
        </p:blipFill>
        <p:spPr>
          <a:xfrm>
            <a:off x="480960" y="1371600"/>
            <a:ext cx="8182080" cy="4114800"/>
          </a:xfrm>
          <a:prstGeom prst="rect">
            <a:avLst/>
          </a:prstGeom>
          <a:ln w="0">
            <a:noFill/>
          </a:ln>
        </p:spPr>
      </p:pic>
      <p:sp>
        <p:nvSpPr>
          <p:cNvPr id="1450" name="矩形 80898"/>
          <p:cNvSpPr/>
          <p:nvPr/>
        </p:nvSpPr>
        <p:spPr>
          <a:xfrm>
            <a:off x="3608280" y="2349360"/>
            <a:ext cx="88452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80899"/>
          <p:cNvSpPr/>
          <p:nvPr/>
        </p:nvSpPr>
        <p:spPr>
          <a:xfrm>
            <a:off x="6300720" y="2349360"/>
            <a:ext cx="88416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80900"/>
          <p:cNvSpPr/>
          <p:nvPr/>
        </p:nvSpPr>
        <p:spPr>
          <a:xfrm>
            <a:off x="4643280" y="2781360"/>
            <a:ext cx="43344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80901"/>
          <p:cNvSpPr/>
          <p:nvPr/>
        </p:nvSpPr>
        <p:spPr>
          <a:xfrm>
            <a:off x="6227640" y="2814480"/>
            <a:ext cx="82260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7:19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